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24E-6CBD-4B23-B95E-603E4607F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991-2556-4883-A5CD-8A69B724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84F-449E-4024-8012-CEF813109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A67-B26C-48B3-8632-FE67A363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4F2-9255-4DF1-94F2-276C940E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FFD-1EFE-45B4-95FB-A0F9A7CA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12F-F43B-4108-B30E-2F91D718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951D-96C4-4322-B694-9D8D909A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BE3-C344-402A-8EE2-9E05B51F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3963-60F3-495E-A30B-31FBE3FC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757-AA30-4854-BCD1-0DF935B3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08E-03A9-46EB-82C3-D075EF10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E46B-326A-44D3-BBAC-95B752D57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fredsisley.org/" TargetMode="External"/><Relationship Id="rId3" Type="http://schemas.openxmlformats.org/officeDocument/2006/relationships/hyperlink" Target="http://www.artchive.com/artchive/S/sisley.html" TargetMode="External"/><Relationship Id="rId4" Type="http://schemas.openxmlformats.org/officeDocument/2006/relationships/hyperlink" Target="http://www.biography.com/impressionists/sisley-bio.jsp" TargetMode="External"/><Relationship Id="rId5" Type="http://schemas.openxmlformats.org/officeDocument/2006/relationships/hyperlink" Target="http://www.metmuseum.org/toah/hd/imml/hd_imml.htm" TargetMode="External"/><Relationship Id="rId6" Type="http://schemas.openxmlformats.org/officeDocument/2006/relationships/hyperlink" Target="http://www.metmuseum.org/toah/hd/imml/hd_imml.htm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roadway BT"/>
              </a:rPr>
              <a:t>Alfred Sisley &amp; Impress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67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Forte"/>
              </a:rPr>
              <a:t>By Alicia Ts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©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1670040" cy="1162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429000" y="4495680"/>
            <a:ext cx="2209680" cy="1874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715000" y="762120"/>
            <a:ext cx="24764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5790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fredsisley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rtchive.com/artchive/S/sisley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biography.com/impressionists/sisley-bio.j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metmuseum.org/toah/hd/imml/hd_imml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roadway BT"/>
              </a:rPr>
              <a:t>Alfred Si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He was an English impressionist landscape ar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He was considered the most consistent artist because he never deviated into figure painting or finding movements that don’t meet his artistic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57800" y="2361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radley Hand ITC"/>
              </a:rPr>
              <a:t>S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730760" cy="6400800"/>
          </a:xfrm>
          <a:prstGeom prst="rect">
            <a:avLst/>
          </a:prstGeom>
          <a:ln w="34920">
            <a:solidFill>
              <a:srgbClr val="00cc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1880" y="4343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38680" y="9144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86400" y="3886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848720" y="3049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7543800" y="20574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7086600" y="5410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Forte"/>
              </a:rPr>
              <a:t>Alfred Si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5790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He was born in Paris on October 30, 18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He died January 29, 1899 or throat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Comic Sans MS"/>
              </a:rPr>
              <a:t>He was inspired by Turner, Bonnington, and Con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99"/>
                </a:solidFill>
                <a:latin typeface="Forte"/>
              </a:rPr>
              <a:t>Bridge at Villeneuve-la-Garen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70866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roadway BT"/>
              </a:rPr>
              <a:t>Pain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Alfred Sisley painted over 900 oil pain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Fewer than a dozen were still lif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Only one or two were genr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981080" y="1523880"/>
            <a:ext cx="510552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Broadway BT"/>
              </a:rPr>
              <a:t>Impressio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Bradley Hand ITC"/>
              </a:rPr>
              <a:t>Began in 1874 by the Anonymous Society of Painters, Sculptors, Printmaker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Bradley Hand ITC"/>
              </a:rPr>
              <a:t>Contributed to design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Bradley Hand ITC"/>
              </a:rPr>
              <a:t>Showed public gardens, wide boulevards, grand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133360"/>
            <a:ext cx="3124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99"/>
                </a:solidFill>
                <a:latin typeface="Forte"/>
              </a:rPr>
              <a:t>Alfred Sis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5086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5:48:17Z</dcterms:created>
  <dc:creator>Alicia Tsai</dc:creator>
  <dc:description/>
  <dc:language>en-US</dc:language>
  <cp:lastModifiedBy>asmith</cp:lastModifiedBy>
  <dcterms:modified xsi:type="dcterms:W3CDTF">2011-10-05T01:22:13Z</dcterms:modified>
  <cp:revision>7</cp:revision>
  <dc:subject/>
  <dc:title>Alfred Sisley &amp; Impressionism</dc:title>
</cp:coreProperties>
</file>